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3B0-BA59-4B68-90B0-EDBD0DF5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92B-0D45-4371-9249-291B062D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E0C-4BD0-4BAA-ACC9-B09DD416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06C-D95F-4BB6-8D7A-89FABA0F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447C-AB67-4BC6-9D66-88496937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DAD3-C2CC-4576-AC8C-44424F90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6A03-5105-4AA5-BD64-B2D6D13E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CD62-057C-4D3C-9F46-09137F2E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C34F-410C-4E1A-B42F-7654D8EF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69EB-034A-41D2-9324-A2AC0DB4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C726-4C58-490F-9D5C-1049A59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A95-5D0F-47CA-9A2D-4F5AFECA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2169-E8FD-44A6-A414-4CCBF303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2473-142B-41D2-88C0-1B3B96AD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B29A-591B-4BA2-9295-77155B89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89C0-BBD8-4656-8864-278ED2AE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B5A7-E3AA-4CB7-A6CB-A2CA76FC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CAB-C54B-4437-A995-DBC13013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C06-C455-4329-9B8C-C57DCF42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767-899A-4DE2-90EB-B7165285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1F9-52C0-428F-BA18-99795D3E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F29-64D1-4B4A-A909-FB320851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FCA-0B51-4AB7-9803-4EDDACA0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AF3-120B-4B78-A86D-DB3D414E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1E2-76AF-4EEF-9688-61BA27E50A8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4EF2-C106-48EF-970C-0CC37952009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the sentence that illustrates the use of proper parallel construction.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Coach Espinoza was a brilliant strategist, a caring mentor, and a wise frien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Coach Espinoza was a brilliant strategist, a caring mentor, and friend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We found the film repulsive, offensive, and we thought it was embarrass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We found the film repulsive, offensive, and embarrassing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cus Freewri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5 minu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uld you rathe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e stranded on a deserted island al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h someone you ha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ocabulary Practice-match the vocab word with its synony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certai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ta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nde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rnish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gi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ple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n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er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usu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ughtfu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il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okou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uar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f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pter 9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does Atticus think he can’t win Tom Robinson’s cas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o calls Scout a coward; why does she walk awa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is Atticus worried about Scout learning to ‘keep her head’ in the next few months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meant by this important quote: “One thing that doesn’t abide by majority rule is a person’s conscience?”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the last sentence of the chapter, what does Scout mean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ot division-chapter 9 begins a new storyline, explain what happened in the first half of the book, and what you think will happen now in the secon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first half of boo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second half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e about the following: 2 paragraph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We just saw our first black president sworn into office, but the social climate in Maycomb was much different. How were black people treated. Why was it such a big deal that Atticus was defending Tom Robinson. Do you agree with him doing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Ch. 1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mber we have a cumulative quiz tomorrow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6:41:50Z</dcterms:created>
  <dc:creator>Angie</dc:creator>
  <dc:description/>
  <dc:language>en-US</dc:language>
  <cp:lastModifiedBy>Angie</cp:lastModifiedBy>
  <dcterms:modified xsi:type="dcterms:W3CDTF">2009-02-04T12:44:39Z</dcterms:modified>
  <cp:revision>4</cp:revision>
  <dc:subject/>
  <dc:title>DOL</dc:title>
</cp:coreProperties>
</file>